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8AD7-4E96-456F-930C-B82461CF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0E7A-3CDF-4C4A-AE51-7E31E9C5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5DCE-83AF-4D0A-96D0-1EF8198B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26F8-D022-4D42-A479-C3B503E2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A130-B5BF-4E5C-872E-C3636F68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BEDF-66D7-43D6-AE71-F99F99EA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90B3-0CA2-425A-B9DB-CFDFB96B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5714-61F3-41DA-94F8-3746805C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3470-BA61-4C86-9120-1437F3DE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30AF-B3B6-4087-B319-95FDE0A4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DC33-9AFB-4A55-A0FA-7DFB1E5D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D34D-F751-44DE-9329-ADE7EB06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9880-AC73-4DBE-BF39-48612CDDC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en.wikipedia.org/wiki/Image:2006_AFL_Carlton2006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hyperlink" Target="http://en.wikipedia.org/w/index.php?title=Waracknabeal_Gift&amp;action=edit&amp;redlink=1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287800">
            <a:off x="394920" y="1052280"/>
            <a:ext cx="4619520" cy="10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Edwardian Script ITC"/>
              </a:rPr>
              <a:t>Douglas Nicholls</a:t>
            </a:r>
            <a:endParaRPr b="0" lang="en-US" sz="72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Edwardian Script ITC"/>
              <a:ea typeface="Edwardian Script ITC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964200">
            <a:off x="4427640" y="1196640"/>
            <a:ext cx="3730680" cy="5111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32000" y="3284640"/>
            <a:ext cx="185076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32000" y="836640"/>
            <a:ext cx="6985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r Douglas Nicholls was born on 1906 in New South W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played Australia rules footba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t picked up by the Carlton Football Clu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940360" y="3789360"/>
            <a:ext cx="2462400" cy="246060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6360" y="4049640"/>
            <a:ext cx="22827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or of South Australia from 1 December 1976 to 30 April 197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32 Doug joined Fitzroy Football Clu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5 the first Aboriginal player to be selected to play for the Victorian Inter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4569120" cy="538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80360" y="620640"/>
            <a:ext cx="12571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de money in running races and in 1928 won the Warracknabeal Gif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867280" y="3716280"/>
            <a:ext cx="2592360" cy="2384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539640" y="4437000"/>
            <a:ext cx="2873520" cy="1843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11280" y="0"/>
            <a:ext cx="1779480" cy="1787400"/>
          </a:xfrm>
          <a:prstGeom prst="rect">
            <a:avLst/>
          </a:prstGeom>
          <a:ln w="0">
            <a:noFill/>
          </a:ln>
        </p:spPr>
      </p:pic>
      <p:sp>
        <p:nvSpPr>
          <p:cNvPr id="54" name="">
            <a:hlinkClick r:id="rId4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45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s a minister of religion and social worker with Aboriginal peopl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57 he became a field officer for the Aborigines Adva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20904000">
            <a:off x="5205240" y="2771640"/>
            <a:ext cx="393876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2:06:51Z</dcterms:created>
  <dc:creator>Reservoir District Secondary College</dc:creator>
  <dc:description/>
  <dc:language>en-US</dc:language>
  <cp:lastModifiedBy>Reservoir District Secondary College</cp:lastModifiedBy>
  <dcterms:modified xsi:type="dcterms:W3CDTF">2008-07-18T03:37:59Z</dcterms:modified>
  <cp:revision>7</cp:revision>
  <dc:subject/>
  <dc:title>Slide 1</dc:title>
</cp:coreProperties>
</file>